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B21-04DA-496A-9831-B0F09DD0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3F6-CD6A-4FBA-A4A5-744CFADE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26E-6488-4343-B30D-B956F7FD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C45-A612-47E2-ADD1-BBF2E9B7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7072-F7F7-4913-8713-8F4153BA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3861-906B-4AE0-835E-6CE63482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9872-44FF-48C3-8690-34FFD0A0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E5CF-B6AE-4EE6-83AD-5261849B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136C-580D-4568-A2CB-E8B18B9C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E08B-31F7-4E11-AD1C-CFA60E1F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09A0-29DC-4063-8130-3E5AB533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F7E-0E33-43F2-9D20-3E3F9C4A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AFAC-29E1-450F-91CD-4B864F83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4112-48D0-4FFF-8154-19BFF11E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B258-F627-41C1-BCDF-99BE6EB1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2CCB-DDBD-40DF-B59E-04193455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D5E6-E219-4B71-AC90-9894F56D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46F-E13D-43D8-A3B5-E42ED56A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022-54B7-43EF-A12D-A885E631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CC4-CAF0-4D16-99EA-49899052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A56-6168-45D2-86B5-AC86CE58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148-EBE9-4D92-AF3B-DD5A4176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347-F8F5-4CE7-B23B-B2D9CBC4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E1B-4838-45FC-A54D-1C9DE69E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74B2-A43B-42E2-B0E6-225A850CC4E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3CAB-9157-4479-84D7-D4DCBA266EC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Measurement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ngths and Peri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-02-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d the 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8260" t="44242" r="8393" b="28676"/>
          <a:stretch/>
        </p:blipFill>
        <p:spPr>
          <a:xfrm>
            <a:off x="0" y="1523880"/>
            <a:ext cx="9144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d to one decimal Pl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0848" t="17303" r="8862" b="11427"/>
          <a:stretch/>
        </p:blipFill>
        <p:spPr>
          <a:xfrm>
            <a:off x="838080" y="1523880"/>
            <a:ext cx="731520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rcRect l="21699" t="13593" r="21880" b="8233"/>
          <a:stretch/>
        </p:blipFill>
        <p:spPr>
          <a:xfrm>
            <a:off x="144792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19529" t="14793" r="15369" b="40266"/>
          <a:stretch/>
        </p:blipFill>
        <p:spPr>
          <a:xfrm>
            <a:off x="0" y="92376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17359" t="24823" r="4521" b="7520"/>
          <a:stretch/>
        </p:blipFill>
        <p:spPr>
          <a:xfrm>
            <a:off x="0" y="0"/>
            <a:ext cx="914400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ngths and 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e accurate measurements of lengths is vital in building, engineering, architecture and manufactu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Metre (m) is base unit for length in Metric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n France 1789 the metric system was develo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tric 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n the 18</a:t>
            </a:r>
            <a:r>
              <a:rPr b="0" lang="zh-CN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century the metre was defined as a one ten-millionth of the distance from the North Pole to Pa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oday – metre is has been defined as the distance light travels in a vacuum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of a seco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90720" y="4648320"/>
                <a:ext cx="18288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979245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33720" y="228600"/>
            <a:ext cx="5359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stimating Lengths and using the right units of measure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12210" t="51698" r="16414" b="20423"/>
          <a:stretch/>
        </p:blipFill>
        <p:spPr>
          <a:xfrm>
            <a:off x="457200" y="1905120"/>
            <a:ext cx="8229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18256" t="23725" r="9124" b="20674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4757" t="26220" r="14904" b="40723"/>
          <a:stretch/>
        </p:blipFill>
        <p:spPr>
          <a:xfrm>
            <a:off x="228600" y="1371600"/>
            <a:ext cx="8686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9549" t="29208" r="9261" b="6211"/>
          <a:stretch/>
        </p:blipFill>
        <p:spPr>
          <a:xfrm>
            <a:off x="0" y="68580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distance around the boundary (outside) of an enclosed obje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8246" t="34218" r="6223" b="28484"/>
          <a:stretch/>
        </p:blipFill>
        <p:spPr>
          <a:xfrm>
            <a:off x="0" y="2819520"/>
            <a:ext cx="91440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0:41:50Z</dcterms:created>
  <dc:creator>michael.parsons</dc:creator>
  <dc:description/>
  <dc:language>en-US</dc:language>
  <cp:lastModifiedBy>michael.parsons</cp:lastModifiedBy>
  <dcterms:modified xsi:type="dcterms:W3CDTF">2008-02-19T01:27:10Z</dcterms:modified>
  <cp:revision>3</cp:revision>
  <dc:subject/>
  <dc:title>Measurement</dc:title>
</cp:coreProperties>
</file>