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6A5-8900-47CA-ADC8-9948E64A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914-FEA0-4CB7-A6F8-1ADE7C23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828-8BCF-45D4-955A-07747921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F8F-3239-4ABE-902D-F76D523A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3763-A15A-430F-BB69-F2E42D33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42E6-300C-4209-A825-765364FD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800D-33EA-46BB-BCF5-BB8D6128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69F8-FF62-4D2A-8253-28411BD6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4FA5-5800-4C73-8727-1CB7A3A8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535F-E5D2-4E74-85B2-57C45325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BE63-7E5B-4711-BE61-78AFEE65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F56-2BE3-43BF-984F-128E6790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B51E-B8C1-415A-8B1C-3C9A010F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1801-4F15-40AD-B8A2-6E875FA6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9C20-4650-4AC6-9A3B-92144EF1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91BD-E1B2-4B59-8490-6A7520EF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2D48-FD19-4663-8C77-601C25C5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430-7004-4B2F-AA0C-A8418A93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B2B-858C-4028-980D-A3B97BC6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0EE-80F5-4A1F-AB4C-9B534C61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A77-7510-4577-97EF-357F881E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B1E-3DE1-4AD5-9A1C-805DF272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E78-2598-43D7-BC76-AC61FABC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7C8-4894-4B95-B7C8-84E1A8F5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7215-DDF1-4692-968C-8B50C5B5DA9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C41B-7508-417C-944E-586ED90FC1C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Measurement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ngths and Peri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-02-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 the 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8260" t="44242" r="8393" b="28676"/>
          <a:stretch/>
        </p:blipFill>
        <p:spPr>
          <a:xfrm>
            <a:off x="0" y="1523880"/>
            <a:ext cx="9144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 to one decimal Pl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0848" t="17303" r="8862" b="11427"/>
          <a:stretch/>
        </p:blipFill>
        <p:spPr>
          <a:xfrm>
            <a:off x="838080" y="1523880"/>
            <a:ext cx="731520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rcRect l="21699" t="13593" r="21880" b="8233"/>
          <a:stretch/>
        </p:blipFill>
        <p:spPr>
          <a:xfrm>
            <a:off x="144792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9529" t="14793" r="15369" b="40266"/>
          <a:stretch/>
        </p:blipFill>
        <p:spPr>
          <a:xfrm>
            <a:off x="0" y="92376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17359" t="24823" r="4521" b="7520"/>
          <a:stretch/>
        </p:blipFill>
        <p:spPr>
          <a:xfrm>
            <a:off x="0" y="0"/>
            <a:ext cx="914400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ngths and 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accurate measurements of lengths is vital in building, engineering, architecture and manufa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Metre (m) is base unit for length in Metric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n France 1789 the metric system was develo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ric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n the 18</a:t>
            </a:r>
            <a:r>
              <a:rPr b="0" lang="zh-CN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century the metre was defined as a one ten-millionth of the distance from the North Pole to Pa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oday – metre is has been defined as the distance light travels in a vacuum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of a seco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90720" y="4648320"/>
                <a:ext cx="18288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979245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5359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timating Lengths and using the right units of measur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12210" t="51698" r="16414" b="20423"/>
          <a:stretch/>
        </p:blipFill>
        <p:spPr>
          <a:xfrm>
            <a:off x="457200" y="1905120"/>
            <a:ext cx="8229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18256" t="23725" r="9124" b="20674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4757" t="26220" r="14904" b="40723"/>
          <a:stretch/>
        </p:blipFill>
        <p:spPr>
          <a:xfrm>
            <a:off x="228600" y="1371600"/>
            <a:ext cx="8686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9549" t="29208" r="9261" b="6211"/>
          <a:stretch/>
        </p:blipFill>
        <p:spPr>
          <a:xfrm>
            <a:off x="0" y="68580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distance around the boundary (outside) of an enclosed obj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8246" t="34218" r="6223" b="28484"/>
          <a:stretch/>
        </p:blipFill>
        <p:spPr>
          <a:xfrm>
            <a:off x="0" y="2819520"/>
            <a:ext cx="9144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0:41:50Z</dcterms:created>
  <dc:creator>michael.parsons</dc:creator>
  <dc:description/>
  <dc:language>en-US</dc:language>
  <cp:lastModifiedBy>michael.parsons</cp:lastModifiedBy>
  <dcterms:modified xsi:type="dcterms:W3CDTF">2008-02-19T01:27:10Z</dcterms:modified>
  <cp:revision>3</cp:revision>
  <dc:subject/>
  <dc:title>Measurement</dc:title>
</cp:coreProperties>
</file>