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1C4-E263-4DA9-BF5A-53B65CDE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AA8-AB10-4000-965A-0F3BEF68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E419-599F-46D9-A3E6-E460F5A5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0BF-FDFA-4B49-B9A9-0F4F40F4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4264-58C8-4CB4-A540-37FAF9D9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1860-69C9-4515-9F43-70D05106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B09D-C673-4199-8A5C-AE079014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081E-DAC8-4300-9EF4-F99F258A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306B-2929-464C-846A-06500AAF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FE71-ED61-4F2F-BF97-5350ADE4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C73A-DB3C-4407-909F-8B5F5278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797-FDC5-4CEA-A1AD-5F89A776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B744-AACD-46E9-9428-D48A0AB1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00A9-B994-4D51-AE14-B8BAEE11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9375-B2A2-4800-B5CF-DBF4B4E8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1B66-AD8B-4B72-BB6B-9B28D34C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8E08-9269-40B9-88F4-4E48C1F3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F4D-7D1B-4B53-94D8-655B175F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75B-FE24-4D01-BF0A-C7A7AB7A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FBA-8861-4F59-A6E2-786B45C4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A56-8682-4305-8F4C-CAF6AD1C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33B-EAC0-4C32-B66D-3C17FD82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461-4C32-42FF-B8AB-E87CCF3B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640-3FB7-4095-A89B-42B17C0C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A4BA-9099-4F40-B9FE-172FF0B0F40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4A1C-DDE0-4F1D-865B-069D624471E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Tahoma"/>
              </a:rPr>
              <a:t>Measurement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ngths and Peri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-02-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nd the Perim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8260" t="44242" r="8393" b="28676"/>
          <a:stretch/>
        </p:blipFill>
        <p:spPr>
          <a:xfrm>
            <a:off x="0" y="1523880"/>
            <a:ext cx="9144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nd to one decimal Pl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0848" t="17303" r="8862" b="11427"/>
          <a:stretch/>
        </p:blipFill>
        <p:spPr>
          <a:xfrm>
            <a:off x="838080" y="1523880"/>
            <a:ext cx="731520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rcRect l="21699" t="13593" r="21880" b="8233"/>
          <a:stretch/>
        </p:blipFill>
        <p:spPr>
          <a:xfrm>
            <a:off x="144792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19529" t="14793" r="15369" b="40266"/>
          <a:stretch/>
        </p:blipFill>
        <p:spPr>
          <a:xfrm>
            <a:off x="0" y="923760"/>
            <a:ext cx="9144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17359" t="24823" r="4521" b="7520"/>
          <a:stretch/>
        </p:blipFill>
        <p:spPr>
          <a:xfrm>
            <a:off x="0" y="0"/>
            <a:ext cx="914400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ngths and Perim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e accurate measurements of lengths is vital in building, engineering, architecture and manufactu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Metre (m) is base unit for length in Metric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n France 1789 the metric system was develo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tric 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n the 18</a:t>
            </a:r>
            <a:r>
              <a:rPr b="0" lang="zh-CN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century the metre was defined as a one ten-millionth of the distance from the North Pole to Pa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oday – metre is has been defined as the distance light travels in a vacuum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of a seco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90720" y="4648320"/>
                <a:ext cx="18288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979245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33720" y="228600"/>
            <a:ext cx="5359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stimating Lengths and using the right units of measure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12210" t="51698" r="16414" b="20423"/>
          <a:stretch/>
        </p:blipFill>
        <p:spPr>
          <a:xfrm>
            <a:off x="457200" y="1905120"/>
            <a:ext cx="8229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18256" t="23725" r="9124" b="20674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14757" t="26220" r="14904" b="40723"/>
          <a:stretch/>
        </p:blipFill>
        <p:spPr>
          <a:xfrm>
            <a:off x="228600" y="1371600"/>
            <a:ext cx="8686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9549" t="29208" r="9261" b="6211"/>
          <a:stretch/>
        </p:blipFill>
        <p:spPr>
          <a:xfrm>
            <a:off x="0" y="68580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im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distance around the boundary (outside) of an enclosed obje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8246" t="34218" r="6223" b="28484"/>
          <a:stretch/>
        </p:blipFill>
        <p:spPr>
          <a:xfrm>
            <a:off x="0" y="2819520"/>
            <a:ext cx="91440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0:41:50Z</dcterms:created>
  <dc:creator>michael.parsons</dc:creator>
  <dc:description/>
  <dc:language>en-US</dc:language>
  <cp:lastModifiedBy>michael.parsons</cp:lastModifiedBy>
  <dcterms:modified xsi:type="dcterms:W3CDTF">2008-02-19T01:27:10Z</dcterms:modified>
  <cp:revision>3</cp:revision>
  <dc:subject/>
  <dc:title>Measurement</dc:title>
</cp:coreProperties>
</file>