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CD3-4238-4EB2-9472-3CA0108B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1C9-D610-45C1-8A12-AF496C8E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714-16D7-4C88-B85A-DAB4CE52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03E-6CEA-4726-831B-4047C2DB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569F-2F52-4443-972B-32A4476B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6989-CAAB-46EC-803D-A149CDE0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C41E-B671-4EA4-91BF-960D952D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5906-DBCC-4CF9-91D6-29A3F735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E2D5-20F2-4B70-A18F-D0CFADE9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070F-E342-408A-9DEF-A39FC697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5213-C884-45FC-A82E-81ED0BE1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DE8-416D-4D9E-A8C0-A07B64E7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A816-BB5F-499A-A755-9987FE0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D92A-FC88-46F2-AFFD-01CD3881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9906-98A5-4930-B227-868225DD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3308-6A3A-4A1F-B000-109DCB9B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7558-EE11-41C8-9522-091C3553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2F1-DC0A-4AC3-9E37-87A23D4D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393-753D-4147-856C-9D044210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036-14B8-48B8-A332-13DC0D17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225-8F91-4293-AB6D-BB3C7220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082-1891-4179-9B87-5B619428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93F-F023-4C28-9CA7-056A8738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72E-A8E1-4B6A-8CB7-63F3941E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1BCB-B345-41B3-91DA-528BD08A964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B04D-D7C3-48A7-B8A4-8F0A3EA1273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Measurement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ngths and Peri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-02-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 the 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8260" t="44242" r="8393" b="28676"/>
          <a:stretch/>
        </p:blipFill>
        <p:spPr>
          <a:xfrm>
            <a:off x="0" y="1523880"/>
            <a:ext cx="9144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 to one decimal Pl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0848" t="17303" r="8862" b="11427"/>
          <a:stretch/>
        </p:blipFill>
        <p:spPr>
          <a:xfrm>
            <a:off x="838080" y="1523880"/>
            <a:ext cx="731520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rcRect l="21699" t="13593" r="21880" b="8233"/>
          <a:stretch/>
        </p:blipFill>
        <p:spPr>
          <a:xfrm>
            <a:off x="144792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9529" t="14793" r="15369" b="40266"/>
          <a:stretch/>
        </p:blipFill>
        <p:spPr>
          <a:xfrm>
            <a:off x="0" y="92376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17359" t="24823" r="4521" b="7520"/>
          <a:stretch/>
        </p:blipFill>
        <p:spPr>
          <a:xfrm>
            <a:off x="0" y="0"/>
            <a:ext cx="914400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ngths and 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accurate measurements of lengths is vital in building, engineering, architecture and manufa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Metre (m) is base unit for length in Metric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n France 1789 the metric system was develo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ric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n the 18</a:t>
            </a:r>
            <a:r>
              <a:rPr b="0" lang="zh-CN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century the metre was defined as a one ten-millionth of the distance from the North Pole to Pa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oday – metre is has been defined as the distance light travels in a vacuum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of a seco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90720" y="4648320"/>
                <a:ext cx="18288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979245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5359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timating Lengths and using the right units of measur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12210" t="51698" r="16414" b="20423"/>
          <a:stretch/>
        </p:blipFill>
        <p:spPr>
          <a:xfrm>
            <a:off x="457200" y="1905120"/>
            <a:ext cx="8229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18256" t="23725" r="9124" b="20674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4757" t="26220" r="14904" b="40723"/>
          <a:stretch/>
        </p:blipFill>
        <p:spPr>
          <a:xfrm>
            <a:off x="228600" y="1371600"/>
            <a:ext cx="8686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9549" t="29208" r="9261" b="6211"/>
          <a:stretch/>
        </p:blipFill>
        <p:spPr>
          <a:xfrm>
            <a:off x="0" y="68580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distance around the boundary (outside) of an enclosed obj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8246" t="34218" r="6223" b="28484"/>
          <a:stretch/>
        </p:blipFill>
        <p:spPr>
          <a:xfrm>
            <a:off x="0" y="2819520"/>
            <a:ext cx="9144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0:41:50Z</dcterms:created>
  <dc:creator>michael.parsons</dc:creator>
  <dc:description/>
  <dc:language>en-US</dc:language>
  <cp:lastModifiedBy>michael.parsons</cp:lastModifiedBy>
  <dcterms:modified xsi:type="dcterms:W3CDTF">2008-02-19T01:27:10Z</dcterms:modified>
  <cp:revision>3</cp:revision>
  <dc:subject/>
  <dc:title>Measurement</dc:title>
</cp:coreProperties>
</file>