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955-78DB-4303-BBBC-1103A6A9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1A1-0D0A-406C-9B3A-E0406C31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BE7-F75E-45DD-98C6-DA4529D3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CB63-F4AF-4DBC-8DD8-A95EED8B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3BC9-572C-42DC-8269-1F0E9887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B446-6417-49C8-A21B-836A3739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AA5B-46B0-45AC-9ABF-77E088B6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3E4E-3EFD-40B2-8E50-A0E7F536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3025-EAC5-48EB-A7CE-7F79E0BD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9088-DC68-4C3E-9F88-07BCFBE1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6544-F775-4CC1-B78E-DE0DE2F7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E5E-99F9-49D0-9EAF-F193647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32B0-EEAE-4670-859A-1C2944D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3F64-710E-4E81-8553-928F0D29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7D0-BD9C-489E-9B86-A23DD657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71BB-FF15-4614-B611-41DD691A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4051-C8CC-4B04-8E97-B6C373A3F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780-22CB-45AC-8D43-79743DD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4AD-EC8A-4004-B778-4AA51CAD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9505-6A93-46CF-BB0D-80A16524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BB1-C949-4AFC-AA9E-DE35F41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9AF-AA81-4BBD-9EFB-1AD6168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339-AFDD-4196-A603-40965536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A4A-0012-416D-A4E5-B380FFE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B3B-85EC-46FB-BB40-3A13EC60089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A2C-7ECA-416C-96B7-410C7CFF096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5ffff"/>
                </a:solidFill>
                <a:latin typeface="Tahoma"/>
              </a:rPr>
              <a:t>Measurement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ngths and Peri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02-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he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8260" t="44242" r="8393" b="28676"/>
          <a:stretch/>
        </p:blipFill>
        <p:spPr>
          <a:xfrm>
            <a:off x="0" y="152388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ind to one decimal Pl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10848" t="17303" r="8862" b="11427"/>
          <a:stretch/>
        </p:blipFill>
        <p:spPr>
          <a:xfrm>
            <a:off x="838080" y="1523880"/>
            <a:ext cx="73152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21699" t="13593" r="21880" b="8233"/>
          <a:stretch/>
        </p:blipFill>
        <p:spPr>
          <a:xfrm>
            <a:off x="14479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9529" t="14793" r="15369" b="40266"/>
          <a:stretch/>
        </p:blipFill>
        <p:spPr>
          <a:xfrm>
            <a:off x="0" y="92376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17359" t="24823" r="4521" b="7520"/>
          <a:stretch/>
        </p:blipFill>
        <p:spPr>
          <a:xfrm>
            <a:off x="0" y="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ngths and 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accurate measurements of lengths is vital in building, engineering, architecture and manufactu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etre (m) is base unit for length i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France 1789 the metric system was develop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etric Syste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n the 18</a:t>
            </a:r>
            <a:r>
              <a:rPr b="0" lang="zh-CN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century the metre was defined as a one ten-millionth of the distance from the North Pole to Par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oday – metre is has been defined as the distance light travels in a vacuum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of a secon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4648320"/>
                <a:ext cx="1828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9979245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33720" y="228600"/>
            <a:ext cx="5359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stimating Lengths and using the right units of measur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12210" t="51698" r="16414" b="20423"/>
          <a:stretch/>
        </p:blipFill>
        <p:spPr>
          <a:xfrm>
            <a:off x="457200" y="1905120"/>
            <a:ext cx="8229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18256" t="23725" r="9124" b="20674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14757" t="26220" r="14904" b="40723"/>
          <a:stretch/>
        </p:blipFill>
        <p:spPr>
          <a:xfrm>
            <a:off x="228600" y="1371600"/>
            <a:ext cx="8686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9549" t="29208" r="9261" b="6211"/>
          <a:stretch/>
        </p:blipFill>
        <p:spPr>
          <a:xfrm>
            <a:off x="0" y="68580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me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istance around the boundary (outside) of an enclosed obje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8246" t="34218" r="6223" b="28484"/>
          <a:stretch/>
        </p:blipFill>
        <p:spPr>
          <a:xfrm>
            <a:off x="0" y="2819520"/>
            <a:ext cx="91440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0:41:50Z</dcterms:created>
  <dc:creator>michael.parsons</dc:creator>
  <dc:description/>
  <dc:language>en-US</dc:language>
  <cp:lastModifiedBy>michael.parsons</cp:lastModifiedBy>
  <dcterms:modified xsi:type="dcterms:W3CDTF">2008-02-19T01:27:10Z</dcterms:modified>
  <cp:revision>3</cp:revision>
  <dc:subject/>
  <dc:title>Measurement</dc:title>
</cp:coreProperties>
</file>